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D9E-434A-4E6E-AF2D-17103E01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DEC-FCC4-488C-90E5-3172FE8D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FB0-4F4B-4AC1-BBC8-7AB12DFA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BE9-3EC0-4C8D-87A3-8431BBAF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1D3-337A-40E4-A97E-7D25A3CB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F6B-2DEF-4963-9F85-08D0DC74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58C-C13C-4E4D-A157-E5073CCE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75E-579F-4BED-BBDB-FCEF831F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F0A-AACD-40AF-BFA0-4C4EBDDA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267-E7E3-4A68-B712-86D72088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189-C9FB-40CA-B2F9-B3444852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63C-86EF-4A95-97A3-AC38256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9C02-65DA-4884-A304-BB51FF7A3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8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4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MPj04387050000[1]"/>
          <p:cNvPicPr/>
          <p:nvPr/>
        </p:nvPicPr>
        <p:blipFill>
          <a:blip r:embed="rId2"/>
          <a:stretch/>
        </p:blipFill>
        <p:spPr>
          <a:xfrm>
            <a:off x="2311560" y="838080"/>
            <a:ext cx="8534160" cy="4953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 flipV="1">
            <a:off x="6334200" y="647784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473120" y="6705720"/>
            <a:ext cx="931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tuned for the next session where we will expl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chart bui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urce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methean web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8:11:51Z</dcterms:created>
  <dc:creator>margaret.lindler</dc:creator>
  <dc:description/>
  <dc:language>en-US</dc:language>
  <cp:lastModifiedBy>Connie White</cp:lastModifiedBy>
  <dcterms:modified xsi:type="dcterms:W3CDTF">2008-07-24T20:33:15Z</dcterms:modified>
  <cp:revision>2</cp:revision>
  <dc:subject/>
  <dc:title>Slide 1</dc:title>
</cp:coreProperties>
</file>